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262-673F-4C07-A7E4-3712593D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2CD-B191-4A75-B12E-F578A9E2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805-7146-4102-9709-61E0991F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539-A2B5-49AA-8D41-7D73D8F2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0C2-F55F-4BF5-8EC2-F3D6D3FE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32E-CB7F-4711-806C-0E5E314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B22-9C92-49BD-A5A2-D2F641C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917-E172-47AD-B896-C111273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683-7170-43FA-B050-DDCDC06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24A-8BD8-4BC7-A16E-22BAC37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623-CCBD-42B2-9A56-D377DDF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445-C62A-4A8E-97FF-DD452C8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1E09C-DDCF-455D-A454-38D5E115A3AF}" type="datetime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CABCB-8259-465D-936D-02B5A05CB521}" type="slidenum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SnWU29o2xwA" TargetMode="External"/><Relationship Id="rId3" Type="http://schemas.openxmlformats.org/officeDocument/2006/relationships/hyperlink" Target="http://www.youtube.com/watch?v=JfTa4B7wQ_8" TargetMode="External"/><Relationship Id="rId4" Type="http://schemas.openxmlformats.org/officeDocument/2006/relationships/hyperlink" Target="http://www.youtube.com/watch?v=wrEPJh14mcU" TargetMode="External"/><Relationship Id="rId5" Type="http://schemas.openxmlformats.org/officeDocument/2006/relationships/hyperlink" Target="http://www.youtube.com/watch?v=wrEPJh14mcU" TargetMode="External"/><Relationship Id="rId6" Type="http://schemas.openxmlformats.org/officeDocument/2006/relationships/hyperlink" Target="http://www.youtube.com/watch?v=KGvESpEeyr4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oudy Old Style"/>
              </a:rPr>
              <a:t>Introduction to Li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hyme Schem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hyme scheme: a regular pattern of rhyming words that appear at the ends of lines in a poem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I wandered lonely as a cloud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at floats on high o’er vales and hills,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B)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hat all at once I saw a crowd,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A host, of golden daffodils;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Beside the lake, beneath the trees,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C)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luttering and dancing in the breeze.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C)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- William Wordsworth “I Wandered Lonely as a Cloud”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gurative language: devices that give creative and unexpected comparisons and descriptions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Simile: a comparison using “like” or “as”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Her eyes are like diamond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Metaphor: a direct comparison of two thing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Robert is a tank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Personification: gives human characteristics to non-human thing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The wind whispered through the tree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magery: very descriptive language that creates detailed images in a reader’s mind.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 apparition of these faces in the crowd;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Petals on a wet, black bough.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-- Ezra Pound "In a Station of the Metro”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Symbol:  an object that represents something else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the color black- death, sadness, depression, etc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Different Types of Poetr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2"/>
              </a:rPr>
              <a:t>Traditional poetr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3"/>
              </a:rPr>
              <a:t>A Poetry Slam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4"/>
              </a:rPr>
              <a:t>A Poet Laurate</a:t>
            </a: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6"/>
              </a:rPr>
              <a:t>Famous Children's Poetry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audio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aking a poem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Types of Poetr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lyric poetry: expresses vivid thought and feeling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narrative poetry: tells a stor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ramatic poetry: uses techniques of drama, such as speaker and conflict, to tell a stor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Poetic Device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usical devices: devices that give a poem a melodious qualit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alliteration: repetition of initial consonant sounds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Terrible truths terrified Terrance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Alphabet Aerobics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Onomatopoeia:  a word that imitates the sound(s) it represents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x: buzz, smack, wham, crash, sizzle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onomoatopeia link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devices continued 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ssonance: repetition of a vowel sound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 ignorance is disguised within insult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so, all the 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ht-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 down by the 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Of my darling, my darling, my 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e and my b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.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-- Edgar Allan Poe, "Annabel Lee"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onsonance: the repetition of consonant sounds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 haggard ragged hog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Whose woods these are I think I know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His house is in the village though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He will not see me stopping 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o watch his woods fill up with snow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-- Robert Frost, "Stopping by Woods on a Snowy Evening"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eter: the rhythmical pattern of a poem, determined by the number and types of stresses or beats, in each line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wand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red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lon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ly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cloud.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st common is iambic pentameter (unstressed, stressed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ll TYPES of different meter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epetition: the use of any element of language – a sound, word, phrase, clause, or sentence – more than once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'm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nobody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! Who are </a:t>
            </a:r>
            <a:r>
              <a:rPr b="0" i="1" lang="en-US" sz="2800" spc="-1" strike="noStrike">
                <a:solidFill>
                  <a:srgbClr val="000000"/>
                </a:solidFill>
                <a:latin typeface="Goudy Old Style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Are you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nobody </a:t>
            </a:r>
            <a:r>
              <a:rPr b="0" i="1" lang="en-US" sz="2800" spc="-1" strike="noStrike">
                <a:solidFill>
                  <a:srgbClr val="000000"/>
                </a:solidFill>
                <a:latin typeface="Goudy Old Style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n there's a pair of us-don't tell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y'd banish us you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know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Emily Dickinson “I'm nobody! Who are You?”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hyme: the repetition of sounds at the ends of words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wo roads diverged in a yellow </a:t>
            </a:r>
            <a:r>
              <a:rPr b="1" i="1" lang="en-US" sz="3200" spc="-1" strike="noStrike">
                <a:solidFill>
                  <a:srgbClr val="000000"/>
                </a:solidFill>
                <a:latin typeface="Goudy Old Style"/>
              </a:rPr>
              <a:t>wood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sorry I could not travel bo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be one traveler, long I </a:t>
            </a:r>
            <a:r>
              <a:rPr b="1" i="1" lang="en-US" sz="3200" spc="-1" strike="noStrike">
                <a:solidFill>
                  <a:srgbClr val="000000"/>
                </a:solidFill>
                <a:latin typeface="Goudy Old Style"/>
              </a:rPr>
              <a:t>st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looked down one as far as I </a:t>
            </a:r>
            <a:r>
              <a:rPr b="1" i="1" lang="en-US" sz="3200" spc="-1" strike="noStrike">
                <a:solidFill>
                  <a:srgbClr val="000000"/>
                </a:solidFill>
                <a:latin typeface="Goudy Old Style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Robert Frost “The Road Not Taken”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1:03:04Z</dcterms:created>
  <dc:creator>ndadmin</dc:creator>
  <dc:description/>
  <dc:language>en-US</dc:language>
  <cp:lastModifiedBy>Katherine Hausauer</cp:lastModifiedBy>
  <dcterms:modified xsi:type="dcterms:W3CDTF">2010-10-25T15:01:05Z</dcterms:modified>
  <cp:revision>8</cp:revision>
  <dc:subject/>
  <dc:title>Poetry</dc:title>
</cp:coreProperties>
</file>